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CE7-B096-4DFE-88D4-FD54F548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DE2-70F6-422F-847A-24A2C0A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C91-688A-4E1A-97CC-8AFC8FEC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329-FEC6-4FC7-9DEB-E1A111FA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182-1D29-4497-8EE7-346E94B2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8BE-D2CB-42B5-96A5-C0DE23AA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6B8-4CDC-498D-8008-ED1229D8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DD6-BA53-4573-8273-E3E7C5D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9D9-C989-4490-A362-FA66B911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96D-49C6-4F24-84F8-48AA3A7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C7B-04BA-44B3-858F-EA8A302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CB3-4F2E-4A79-977F-92845AB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391A-2071-45B9-9228-6B68B8331246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sentence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frag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sentence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frag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1320" y="2491560"/>
            <a:ext cx="39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y only want money.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05:15:44Z</dcterms:created>
  <dc:creator>Lisa</dc:creator>
  <dc:description/>
  <dc:language>en-US</dc:language>
  <cp:lastModifiedBy>Lisa</cp:lastModifiedBy>
  <dcterms:modified xsi:type="dcterms:W3CDTF">2008-05-27T05:34:19Z</dcterms:modified>
  <cp:revision>2</cp:revision>
  <dc:subject/>
  <dc:title>Lysbilde 1</dc:title>
</cp:coreProperties>
</file>